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gif" ContentType="image/gif"/>
  <Override PartName="/ppt/media/image7.wmf" ContentType="image/x-wmf"/>
  <Override PartName="/ppt/media/image8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34C2-7C65-4197-BA7D-FD7A0C8B0A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1BF9-6314-4DAA-9F68-82BB54CEFB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E3A-204A-413B-988B-C32E84E2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8ED-3F51-46B2-8BDE-7FC426D6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9A453-159D-4EAF-BC05-9EE2E215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D05F3-2DAA-4A17-9826-9D862667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66B6D-5952-4FFA-B28C-4EE95825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8AB2F-CF81-425C-A02B-78D22D7A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5E418-E0AD-4479-ABBF-6E8F9F0A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406EA-4B89-467B-BDFB-815EEFB6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06EB1-45A0-4AC6-BAF6-D66F30DC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217E4-0BDE-4BCB-813E-5C6A36B5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12546-5E9B-47A3-823E-29AA2DF2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2F727-EDBE-47FF-B61D-17EA0330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B13-B0CD-4781-9034-A7863DFD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DC773-6434-44AC-9AC0-06D57FC2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425AA-43AF-41B8-93D5-26B1C2B9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9B901-7431-4980-B574-592B3044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58473-0880-454E-B1C3-C6D72D7E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BF467-9DEC-4ABF-9ABD-C276F28E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D2E90-2B84-42A7-A478-E2408525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AF2E0-08B1-4059-A44E-A005EAF4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5B9BD-DD6E-49B1-A76A-EF703E1F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444AC-2BA4-48E2-9AB2-003E41D3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11B03-573D-4B84-9460-92DF5F16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D7E-D48B-49D8-A939-C89824E3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D1616-A85F-44D4-BE83-DA47464F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D94A7-27C6-49FB-A4BA-80D39C8F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5FF90-8FB7-4E51-91B1-9A7A3968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FC54A-B9F3-42B9-A096-3A1740EF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E2764-816F-4B41-B66F-8282612B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AF210-2E11-4D36-A7B9-023FC43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1E98C-0FF7-4838-A554-69EE72DD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3AF39-819D-4A88-A1B5-063655B9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71213-9DEA-43E2-A6A9-99513ADA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4175E-D215-45AE-9DFC-EA83211F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D141-9C0A-4687-848D-712BFBE1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76504-4313-401B-972D-F0A0C40E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B40F4-936D-4BAA-AA90-A11B565B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81533-1C8B-40A3-8C11-2A5397BF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F6AE5-6374-4EF5-A47E-72C5A83C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3B30B-0D96-4F1B-B77C-BBFB2219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C69C7-FA4F-4058-B31F-D02CC003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174AB-B693-4AB8-8141-A41E8623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45044-E73C-4B6F-9E3F-B222F8A9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D7278-D6B7-4EF5-9879-A3F36121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80945-71DB-4AB2-8552-0707753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874D-DC2E-4BD9-9E4D-AA8DF01E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CD568-3C66-4D3E-BFFC-B6D79860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A9A30-031A-4C9F-B670-04BA18EB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8B635-3126-4D4F-804C-B1A4FE9A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0B6D6-0F5F-47DA-A7BB-EC64B3CC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34DD9-DAE9-4A8D-9817-72157CD9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B0EB-8BE4-4A99-A5BA-3220719A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7981-2076-475F-A94A-1C3FB9D3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C842-5F17-45EE-922B-432D0AB0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2720-8EC8-42D7-8330-1EAF4D6D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E502-6428-4BF9-966B-CD01A846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8E4-AD39-49F9-9BD6-26CDB9D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1745-6177-468F-A147-BC758FBE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CEFD-0599-480C-95E4-551891A4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53B4-667D-46D4-828D-7D8F634C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9CF3-DD7E-446C-B0BC-1D0CABAA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3C8F-2A60-41FB-B7F0-7DDC6861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62F3-162B-4BC0-8BA4-FD8A2E66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45E5-7955-46B6-9B0C-FB28BE24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A382-C1CE-4605-93FF-6285180D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AD01-15AE-4543-A0E5-290A8A24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CF14-B9EA-4D74-8369-B7A5272D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ED1-E40B-4D0D-8541-7A1ABF01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E9455-7B3E-4DAC-95BF-5467C8AB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D9AE-7C4E-467E-9D0D-21AF8026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E56F-171A-402B-B19B-F9A8687E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DDCCD-DB9D-4800-8AD9-EFBEB3E4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D3C4-AE5C-4D8E-99C0-B54A7C78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DB17E-27CE-427F-A10E-FDFB8065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5B54C-50D0-4D79-B1B2-60A3E3D8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939C-5976-40DD-BB98-71CD9294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8BC3-CAA5-4987-A5FE-8BC515BB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3F0F-035E-4D70-9B70-42BD1B82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676-A0FF-4B64-941B-7006E84B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82BC-64AD-452B-ABBD-E044F27A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58DBD-2485-4A06-80E8-9250740D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55E82-A780-4FA1-A065-19479220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2FE6-9E3F-42CC-9309-AD2CCB13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E652-9FDB-4893-AAD6-561EBFA4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517B6-653F-4727-88D2-88CD418F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7171-BE15-49B0-B7D0-9F00CE07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3F99-AB67-486F-95C7-AB15424A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2B342-F8AB-4DCC-ABD3-00341BFA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77ECC-7876-4DDA-993D-C972609E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C5D-35F0-4388-BEC0-9F9A361B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DBD48-60DB-42B1-B254-FFB3BE20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4A6C0-53A5-40A1-85BB-C04023C3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92C7D-E3C4-49F0-9948-C7602805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B959F-7CF5-4191-83EC-EB314259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DC1C7-2B41-4C72-8DEC-DE243CF9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AE65-8840-4184-87EC-35EBF19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EF6F3-9DFA-4A63-AB89-2D67CD83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8191-486C-46D5-BFB1-50C60D84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A496A-BC4A-4702-AEA5-45D676BB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1C0A7-DF4F-4D81-AD83-2ED9D3C7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0E7-BEDD-48DE-8837-34A83085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DB2F-BDE3-4B44-B631-D03B3B4B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FD03E-32C9-4409-BB5F-7B706977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FF0F-9279-4596-91C2-47B650F6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F3F1-0EB8-4544-9AE4-B81B99F2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6E7C-C900-4E09-82A7-E727AA74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FBCF2-D70C-40D2-A8D2-91C3DF26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E02BB-97F0-4095-AEE6-0138384B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4BD40-8079-49EB-9A9B-94F2FFBD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7C19B-1260-4015-81BD-06E5D9D0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7D9BB-90E7-4C72-9C40-0F4FF648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4F8-457D-4772-908A-CED13237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85092-17F1-4FAB-A67B-E88ADDF0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5BDA-F2F4-4A1F-8D6B-CE9CCFC2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69AFD-0A88-4BC9-9EBA-1C1D82B8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282DA-A9B5-425C-A903-F019A0A7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1648C-27C8-4103-9846-07CF53DC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88154-1323-45FC-9CF8-8C1EE386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B610A-8E3E-451E-928E-62523C44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7E3BE-A220-4962-98F2-4F00B449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FE4A-0970-4FA3-AC9D-E5AA9063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5B35F-293E-4CB8-BD21-220C40D3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0C0-3588-4011-9880-166C080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69E95-7E0C-40F7-B4B1-3400C4D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25537-EB13-43FF-92F6-E09DDAE1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C044B-2599-4DFF-8E0A-E35B0547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EAAD1-C99A-4525-9098-30861BEB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CE647-2AA0-4E54-A53F-431ADC5A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EA71D-3B35-47AB-A435-5619FAC9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79735-60B6-4D21-B173-321F353D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E843C-D2A5-4E32-807A-B83754DE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BC4AC-4A6A-432C-BA00-FD921F5F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419D7-A5F8-458F-8AF9-90FAF1A5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5EE-4448-4C66-B11F-DBF001A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6B37A-52A5-42FD-9AC7-426E9C37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C62E8-EF64-460D-AD6E-926E3DE1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87FDF-184F-4066-B30B-4BF82E4F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B0727-9597-4BAB-8FC9-9E71B09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D59B3-443D-4E64-84BD-85D57903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22B74-C784-4D04-AE08-8E86DDA3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8B05D-7E90-4B1E-AB65-AECDB793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82B91-50DA-404B-83CA-2BB38193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10E65-3FCD-469A-867C-4D8D6C6C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17920-F855-4C4E-A20E-E499A3FA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0D48-42B2-4103-8EF5-40DE7A8B52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11C6-8FB3-453F-BA93-271D05F2B7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891D-3DCE-4ED1-BC88-E975FDDB83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D56F-D098-48BD-9179-504244CF91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F0FA-896A-46EA-A4B0-731B989C4D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49E8-3DD5-479C-9370-92BEDEF299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3E0D-32A4-459D-8DD8-F8A0AB9480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0D2B-953B-42EC-B3B2-E6F8E486E5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1129-7482-4D19-B7B5-6B5CA41E33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A144-9008-411E-8B04-B738A26ECA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AB21-8787-4D2F-BCEC-951F112BBA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B7CB-431F-4543-80AE-AACACD2F94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НОВОЕ ВРЕМЯ –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НОВЫЕ ПРОФЕСС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5" descr="BD07153_"/>
          <p:cNvPicPr/>
          <p:nvPr/>
        </p:nvPicPr>
        <p:blipFill>
          <a:blip r:embed="rId1"/>
          <a:stretch/>
        </p:blipFill>
        <p:spPr>
          <a:xfrm>
            <a:off x="7162920" y="2590920"/>
            <a:ext cx="1646280" cy="18018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BD06675_"/>
          <p:cNvPicPr/>
          <p:nvPr/>
        </p:nvPicPr>
        <p:blipFill>
          <a:blip r:embed="rId2"/>
          <a:stretch/>
        </p:blipFill>
        <p:spPr>
          <a:xfrm>
            <a:off x="285840" y="4214880"/>
            <a:ext cx="1455480" cy="1800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PE01846_"/>
          <p:cNvPicPr/>
          <p:nvPr/>
        </p:nvPicPr>
        <p:blipFill>
          <a:blip r:embed="rId3"/>
          <a:stretch/>
        </p:blipFill>
        <p:spPr>
          <a:xfrm>
            <a:off x="5292720" y="189000"/>
            <a:ext cx="3693960" cy="14842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" descr="BD06517_"/>
          <p:cNvPicPr/>
          <p:nvPr/>
        </p:nvPicPr>
        <p:blipFill>
          <a:blip r:embed="rId4"/>
          <a:stretch/>
        </p:blipFill>
        <p:spPr>
          <a:xfrm>
            <a:off x="285840" y="714240"/>
            <a:ext cx="1803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стребованные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198108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еджеры по продаж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хгалтеры и инжене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в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квалифицированные рабоч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рговые представители и вод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ональные представ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крета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 П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рис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граммис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е представ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9" descr="j0303355"/>
          <p:cNvPicPr/>
          <p:nvPr/>
        </p:nvPicPr>
        <p:blipFill>
          <a:blip r:embed="rId1"/>
          <a:stretch/>
        </p:blipFill>
        <p:spPr>
          <a:xfrm>
            <a:off x="6072120" y="35719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1" descr="BS00508_"/>
          <p:cNvPicPr/>
          <p:nvPr/>
        </p:nvPicPr>
        <p:blipFill>
          <a:blip r:embed="rId2"/>
          <a:stretch/>
        </p:blipFill>
        <p:spPr>
          <a:xfrm>
            <a:off x="5357880" y="164304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ближайшем будущ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10" descr="j0283649"/>
          <p:cNvPicPr/>
          <p:nvPr/>
        </p:nvPicPr>
        <p:blipFill>
          <a:blip r:embed="rId1"/>
          <a:stretch/>
        </p:blipFill>
        <p:spPr>
          <a:xfrm>
            <a:off x="7929720" y="857160"/>
            <a:ext cx="657000" cy="90504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5"/>
          <p:cNvSpPr/>
          <p:nvPr/>
        </p:nvSpPr>
        <p:spPr>
          <a:xfrm>
            <a:off x="785880" y="1714680"/>
            <a:ext cx="700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Инженерные специа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IT и разработчики компьютерного аппаратного обеспе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Нанотехнолог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пециальности на стыке электроники и биотехнолог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Маркетинг и продаж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пециальности, связанные с сервис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Логис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Эколог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Медицинские специальности, связанные с поиском средств продления жиз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Хим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вые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Байер (менеджер по закупке одежд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остокове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Имиджмейк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едиаплан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одельер (дизайнер одежд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Нанотехнолог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олиграф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Food-sty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Бренд-менедж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Криэй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ерчендайз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дкие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64268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Актуарий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пециалист по страхованию, занимающийся разработкой научно обоснованных методов исчисления тарифных ставок по долгосрочному страхованию жиз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Гринкипе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дословно с английского языка название данной профессии можно перевести как «хранитель зелени». Основная задача гринкипера – поддержание спортивных газонов для игры в футбол, регби, бейсбол и т.п. в должном состоя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юха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редкая профессия в сфере парфюмерии. Его главной задачей является оценка запаха и составление парфюмерных композиц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еривател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ист, который управляет станком, наносящим серу на спички на заводах по производству спиче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астижер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пециалист по изготовлению из натуральных волос и искусственных волокон париков, усов, бород и бакенбард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ит-бос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руководитель среднего звена в казино. Обязанности самые широкие и прежде всего контроль за всем, что происходит в игровом зал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685800" y="285480"/>
            <a:ext cx="77724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омель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он знает все о винах и церемонии винопития: как правильно открыть бутылку, налить, подать к нужному блюду и что сказать при эт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трингер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штатного корреспондента, который работает, как правило, в экстремальных условиях: это и зоны военных действий, и стихийных бедствий, и массовых беспорядк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аксидерми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чучельник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итестер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дегустатор чая, оценивает по 50-60 образцов в день. Оценки идут по внешнему виду, вкусу, цвету листьев, аромату завар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орседо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крутильщик сига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рамбовщ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рофессия, которая недавно появилась в метро на самых людных станциях. Главная обязанность такого человека – помогать людям пролезть в переполненный вагон с целью обеспечения своевременного отправления поез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Фумель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ист по сигарам и спиртным напиткам. Главная задача представителя этой редкой профессии – подобрать для клиента сочетание сигары и спиртного напитка, учитывая при этом индивидуальные особенности каждого кли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5:46:49Z</dcterms:created>
  <dc:creator>Валентина</dc:creator>
  <dc:description/>
  <dc:language>en-US</dc:language>
  <cp:lastModifiedBy>ирина</cp:lastModifiedBy>
  <dcterms:modified xsi:type="dcterms:W3CDTF">2010-11-12T05:52:12Z</dcterms:modified>
  <cp:revision>72</cp:revision>
  <dc:subject/>
  <dc:title>Презентация PowerPoint</dc:title>
</cp:coreProperties>
</file>